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7.jpeg" ContentType="image/jpeg"/>
  <Override PartName="/ppt/media/image3.wmf" ContentType="image/x-wmf"/>
  <Override PartName="/ppt/media/image24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1DC-1A09-4737-A1B3-B4D1C1BE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F97-0006-47D5-98CB-6A8207D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1A-660B-4F98-8A89-EDE33166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09E-1DED-4AE7-993C-4053D77C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30AC-3BB2-4283-84A8-5051E3E3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67CD-FBD9-431D-9522-90E812A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2205-DAED-43C8-A3E4-9434CF20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FE5-6CA8-4A69-BFA5-C8CC5B28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88C-FD37-4FC0-B52E-C75BBE3D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D8DC-692A-4715-9AC2-0DCD603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7CB-D3AB-4FEB-872A-B8D2B682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AEA-1896-47AE-89B1-1FE84AB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1D2-507E-4978-97F3-C3632BB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DB2-72B0-429F-BF2A-EEE8C9D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5205-6C85-41B5-B215-7C1D50A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D3A-41C5-4A85-9E6A-66730A21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9AAA-5A4C-4DD8-9379-235A447E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6E8-8AE4-40BD-A145-71E141C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7E4-B808-4482-BB13-3214123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8FA-1180-498A-BCE3-B6173A2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C54-2339-41FA-8D1D-30473B6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988-0908-4C10-85EA-D33A2967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343-23CF-4ACD-97A1-DCEDF99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628-8F6B-4466-A558-EE4F438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3A14-B877-4EA0-9096-E37272F8A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742-A20A-4594-ACB9-514D36FA9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hyperlink" Target="http://rds.yahoo.com/S=96062857/K=child+looking+at+the+sun/v=2/TID=DFIM_1/SID=e/l=II/R=4/*-http://images.search.yahoo.com/search/images/view?back=http%3A//images.search.yahoo.com/search/images%3Fsrch=1%26p=child%2Blooking%2Bat%2Bthe%2Bsun%26ei=UTF-8%26n=20%26fl=0%26b=1&amp;h=197&amp;w=195&amp;imgcurl=kids.digt.ru/kids/images/sun-right-for-simple.jpg&amp;imgurl=kids.digt.ru/kids/images/sun-right-for-simple.jpg&amp;name=%3Cb%3Esun%3C/b%3E-right-for-simple.jpg&amp;p=child+looking+at+the+sun&amp;rurl=http%3A//kids.digt.ru/kids/rehabilcenter/program.shtml&amp;rcurl=http%3A//kids.digt.ru/kids/rehabilcenter/program.shtml&amp;type=&amp;no=4&amp;tt=57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rds.yahoo.com/S=96062857/K=child+watching+tv/v=2/TID=DFIM_1/SID=e/l=II/R=47/*-http://images.search.yahoo.com/search/images/view?back=http%3A//images.search.yahoo.com/search/images%3Fsrch=1%26p=child%2Bwatching%2Btv%26ei=UTF-8%26n=20%26fl=0%26b=41&amp;h=190&amp;w=127&amp;imgcurl=www.unce.unr.edu/publications/FS98/FS-98-86_files/tv.jpg&amp;imgurl=www.unce.unr.edu/publications/FS98/FS-98-86_files/tv.jpg&amp;name=%3Cb%3Etv%3C/b%3E.jpg&amp;p=child+watching+tv&amp;rurl=http%3A//www.unce.unr.edu/publications/FS98/FS9886.htm&amp;rcurl=http%3A//www.unce.unr.edu/publications/FS98/FS9886.htm&amp;type=&amp;no=47&amp;tt=151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hyperlink" Target="http://rds.yahoo.com/S=96062857/K=children+bathing+a+dog/v=2/TID=DFIM_1/SID=e/l=II/R=1/*-http://images.search.yahoo.com/search/images/view?back=http%3A//images.search.yahoo.com/search/images%3Fsrch=1%26p=children%2Bbathing%2Ba%2Bdog%26ei=UTF-8%26n=20%26fl=0&amp;h=86&amp;w=129&amp;imgcurl=www.indexstock.com/store/GetThumb.asp/ImageNum%3D268944%26VOLID%3D388%26gc%3Dgc1%26ss%3D1/stockphoto-268944.jpg&amp;imgurl=www.indexstock.com/store/GetThumb.asp/ImageNum%3D268944%26VOLID%3D388%26gc%3Dgc1%26ss%3D1/stockphoto-268944.jpg&amp;name=stockphoto-268944.jpg&amp;p=children+bathing+a+dog&amp;rurl=http%3A//www.indexstock.com/content/artists/Jacqueline%2520McArthur.asp&amp;rcurl=http%3A//www.indexstock.com/content/artists/Jacqueline%2520McArthur.asp&amp;type=&amp;no=1&amp;tt=3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Baskerville Old Face"/>
              </a:rPr>
              <a:t>WHAT ARE THE 5 SENS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Mrs. Vazquez’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Kindergarte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K.4) </a:t>
            </a:r>
            <a:r>
              <a:rPr b="1" lang="en-US" sz="3200" spc="-1" strike="noStrike">
                <a:solidFill>
                  <a:srgbClr val="cc00ff"/>
                </a:solidFill>
                <a:latin typeface="Baskerville Old Face"/>
              </a:rPr>
              <a:t>Health information.</a:t>
            </a: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 The student knows the basic structures and functions of the human body and how they relate to personal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The student is expec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(A) name the </a:t>
            </a:r>
            <a:r>
              <a:rPr b="1" lang="en-US" sz="3200" spc="-1" strike="noStrike">
                <a:solidFill>
                  <a:srgbClr val="cc00ff"/>
                </a:solidFill>
                <a:latin typeface="Baskerville Old Face"/>
              </a:rPr>
              <a:t>fiv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3014640" cy="4343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71800" y="4876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The five senses are sight, touch, taste, smell, and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The Sense To Se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We use our eyes to 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We use our eyes to look at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We use our eyes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990720" cy="84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4038480"/>
            <a:ext cx="14382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242 -0.0659 C -0.45694 -0.0844 -0.45398 -0.07446 -0.46197 -0.09527 C -0.46284 -0.09758 -0.46527 -0.09758 -0.46666 -0.09943 C -0.47812 -0.11469 -0.46475 -0.10105 -0.47621 -0.11839 C -0.47794 -0.12116 -0.48072 -0.12255 -0.48263 -0.12486 C -0.48593 -0.12879 -0.48819 -0.13481 -0.49218 -0.13758 C -0.51214 -0.15099 -0.51735 -0.15654 -0.53975 -0.1607 C -0.5493 -0.15931 -0.55902 -0.15931 -0.56839 -0.15654 C -0.57343 -0.15515 -0.57968 -0.14567 -0.58419 -0.14174 C -0.5868 -0.13689 -0.58958 -0.13203 -0.59218 -0.12694 C -0.59322 -0.12486 -0.5953 -0.12047 -0.5953 -0.12047 C -0.59721 -0.1103 -0.60086 -0.10105 -0.60329 -0.09088 C -0.60416 -0.08093 -0.60642 -0.07145 -0.60642 -0.06151 C -0.60642 -0.01966 -0.59773 0.01294 -0.57951 0.04647 C -0.57343 0.0578 -0.56492 0.06681 -0.55885 0.07814 C -0.55537 0.08462 -0.55242 0.09386 -0.54773 0.09918 C -0.54583 0.10126 -0.54322 0.10173 -0.54131 0.10358 C -0.52586 0.11837 -0.51909 0.12369 -0.49999 0.1267 C -0.48419 0.13225 -0.49166 0.13017 -0.47777 0.13317 C -0.4651 0.13248 -0.45242 0.13225 -0.43975 0.13109 C -0.4144 0.12878 -0.44044 0.12993 -0.42551 0.1267 C -0.41284 0.12392 -0.39999 0.12115 -0.38732 0.11837 C -0.37239 0.11167 -0.36041 0.10774 -0.34444 0.10566 C -0.32846 0.10034 -0.31162 0.09687 -0.2953 0.09502 C -0.27864 0.08947 -0.26145 0.08485 -0.24444 0.0823 C -0.21996 0.07121 -0.19218 0.08069 -0.16666 0.08439 C -0.16405 0.08508 -0.16145 0.086 -0.15885 0.0867 C -0.15346 0.08808 -0.14287 0.09086 -0.14287 0.09086 C -0.1302 0.10219 -0.1144 0.10612 -0.10173 0.11837 C -0.09305 0.1267 -0.08645 0.14034 -0.07777 0.14797 C -0.07221 0.15259 -0.06041 0.16346 -0.05728 0.16485 C -0.05416 0.16623 -0.04773 0.16901 -0.04773 0.16901 C -0.02985 0.16739 -0.02673 0.16808 -0.01284 0.16069 C -0.00294 0.14751 0.00018 0.14103 0.00782 0.12462 C 0.00938 0.12138 0.00973 0.11745 0.01112 0.11398 C 0.01199 0.11167 0.0132 0.10982 0.01424 0.10774 C 0.01789 0.08346 0.01858 0.05756 0.01268 0.03375 C 0.01077 0.01872 0.00799 0.0104 5.27778E-006 -6.01156E-006 E"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24 -0.00855 C -0.67275 -0.00162 -0.65278 0.00185 -0.6316 0.00416 C -0.5474 0.00347 -0.4632 0.00416 -0.379 0.00208 C -0.35573 0.00162 -0.33126 -0.00786 -0.30764 -0.01063 C -0.24966 -0.02566 -0.19549 -0.02798 -0.13612 -0.02959 C -0.11754 -0.03329 -0.09914 -0.03815 -0.08073 -0.04231 C -0.05712 -0.04116 -0.03889 -0.04092 -0.01719 -0.03607 C -0.00903 -0.03237 -0.00903 -0.02566 -0.00452 -0.01711 C -0.00087 -0.00277 -0.00261 -0.00832 0.00017 3.06358E-006 E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21 -0.00024 C -0.84045 0.00554 -0.80468 0.01803 -0.76823 0.02104 C -0.75208 0.02242 -0.71909 0.0252 -0.71909 0.0252 C -0.69305 0.03098 -0.66614 0.03468 -0.63975 0.03791 C -0.59097 0.05063 -0.54149 0.06242 -0.49218 0.07167 C -0.4151 0.07098 -0.33784 0.07167 -0.26059 0.06959 C -0.24843 0.06936 -0.23455 0.06127 -0.22222 0.05895 C -0.18437 0.05202 -0.146 0.03884 -0.10798 0.03375 C -0.08628 0.02404 -0.06562 0.01502 -0.04288 0.0104 C -0.03246 0.00832 -0.02291 0.00716 -0.01267 0.00416 C -0.01007 0.00346 -0.00764 0.003 -0.00486 0.00208 C -0.00312 0.00161 -2.77778E-006 -0.00024 -2.77778E-006 -0.00024 E">
                                      <p:cBhvr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11 0.03376 C 0.28299 0.02914 0.25521 0.02197 0.22691 0.01896 C 0.17795 0.00717 0.22552 0.01734 0.1191 0.01272 C 0.11406 0.01249 0.11441 0.00902 0.10955 0.00833 C 0.09948 0.00717 0.08941 0.00694 0.07934 0.00625 C 0.0526 -0.00069 0.0276 3.46821E-007 -3.05556E-006 3.46821E-007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The Sense to Touch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hands to give a dog b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</a:t>
            </a:r>
            <a:r>
              <a:rPr b="0" lang="en-US" sz="3200" spc="-1" strike="noStrike">
                <a:solidFill>
                  <a:srgbClr val="cc00ff"/>
                </a:solidFill>
                <a:latin typeface="Baskerville Old Face"/>
              </a:rPr>
              <a:t>use</a:t>
            </a: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 our hands to pet a fluffy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hands to feel soft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457200"/>
            <a:ext cx="1235160" cy="425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1676520"/>
            <a:ext cx="1447920" cy="96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62920" y="2590920"/>
            <a:ext cx="157644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257800" y="4800600"/>
            <a:ext cx="1905120" cy="124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555 -0.03607 C -0.58871 -0.03329 -0.52239 -0.02751 -0.45555 -0.02543 C -0.43281 -0.02405 -0.40989 -0.02266 -0.38715 -0.02127 C -0.37344 -0.02035 -0.346 -0.01711 -0.346 -0.01711 C -0.30017 -0.00601 -0.25416 0.00023 -0.20781 0.00624 C -0.14982 0.00509 -0.11545 0.00671 -0.06493 -0.00647 C -0.0434 -0.00509 -0.02135 -1.32948E-006 1.38889E-006 -1.32948E-006 E">
                                      <p:cBhvr>
                                        <p:cTn id="9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87 -0.48416 C -0.14566 -0.47538 -0.14236 -0.46474 -0.13663 -0.45665 C -0.13194 -0.44994 -0.12552 -0.44648 -0.12066 -0.43977 C -0.11527 -0.43283 -0.11163 -0.42359 -0.10642 -0.41665 C -0.09548 -0.40231 -0.08246 -0.39098 -0.07152 -0.37642 C -0.05104 -0.34913 -0.03489 -0.3163 -0.02708 -0.27931 C -0.025 -0.25341 -0.01788 -0.22983 -0.01267 -0.20509 C -0.01128 -0.19885 -0.01076 -0.1926 -0.00955 -0.18613 C -0.00764 -0.17619 -0.0033 -0.15676 -0.0033 -0.15676 C -0.00191 -0.13711 0.00035 -0.11885 0.00157 -0.09942 C -0.00104 -0.04532 1.66667E-006 -0.07838 1.66667E-006 -1.15607E-007 E">
                                      <p:cBhvr>
                                        <p:cTn id="9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219 0.18612 C -0.29323 0.17433 -0.2941 0.16346 -0.29688 0.15213 C -0.29531 0.1223 -0.29219 0.09248 -0.27309 0.07398 C -0.26945 0.05918 -0.26493 0.06612 -0.25556 0.05294 C -0.24983 0.04485 -0.24323 0.04092 -0.23507 0.03814 C -0.22292 0.02982 -0.21007 0.02889 -0.19688 0.02543 C -0.15712 0.02797 -0.11754 0.02797 -0.07778 0.02335 C -0.05209 0.01572 -0.02413 0.01525 -1.38889E-006 -5.0289E-006 E">
                                      <p:cBhvr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08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Sense of Tas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mouth to taste Mom’s great foo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mouth to taste sweet fru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mouth to taste a sour le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34320" y="3429000"/>
            <a:ext cx="134784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118404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1758960" cy="175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010280" y="228600"/>
            <a:ext cx="1371600" cy="87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Sense of Sme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e use our nose to smell the beautiful fl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e use our nose to smell to natural air that surrounds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e use our nose to smell good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126504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38680" y="3124080"/>
            <a:ext cx="1295640" cy="312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086600" y="304920"/>
            <a:ext cx="83196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091 -0.09896 C -0.7823 -0.09341 -0.78317 -0.08994 -0.78421 -0.08416 C -0.78542 -0.07746 -0.78733 -0.06312 -0.78733 -0.06312 C -0.78681 -0.04994 -0.78716 -0.0363 -0.78577 -0.02312 C -0.78542 -0.02012 -0.78369 -0.01734 -0.78247 -0.0148 C -0.76893 0.01526 -0.75539 0.01295 -0.73021 0.01711 C -0.59706 0.00948 -0.46563 0.00948 -0.33178 0.00879 C -0.2639 0.0111 -0.19827 0.0104 -0.13178 -0.00416 C -0.08768 -0.00324 -0.04393 3.52601E-006 -7.22222E-006 3.52601E-006 E">
                                      <p:cBhvr>
                                        <p:cTn id="16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Baskerville Old Face"/>
              </a:rPr>
              <a:t>Sense of Hea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ears to listen to our favorite music on th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ears to listen to the teacher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Baskerville Old Face"/>
              </a:rPr>
              <a:t>We use our ears to listen to our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1523880" cy="127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78264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315200" y="2514600"/>
            <a:ext cx="1508040" cy="1803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562720" y="4495680"/>
            <a:ext cx="181908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4289 0.83514 C -0.81059 0.83977 -0.77639 0.83167 -0.74445 0.82451 C -0.66754 0.8074 -0.6198 0.79144 -0.54757 0.75884 C -0.53282 0.75214 -0.51719 0.74867 -0.50313 0.73988 C -0.4257 0.69179 -0.36841 0.62566 -0.30799 0.54751 C -0.25782 0.48254 -0.20851 0.41849 -0.16198 0.3489 C -0.1118 0.27375 -0.04704 0.20994 -0.01267 0.11838 C 0.00174 0.07977 0.00921 0.03838 0.01268 -0.00416 C 0.01216 -0.01341 0.01251 -0.02266 0.01112 -0.03168 C 0.01077 -0.03376 0.01007 -0.02752 0.00955 -0.02544 C 0.00851 -0.02197 0.00747 -0.01827 0.00626 -0.0148 C 0.00435 -0.00971 0.00192 -0.00509 9.72222E-006 4.73988E-006 E">
                                      <p:cBhvr>
                                        <p:cTn id="19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059280" y="1523880"/>
            <a:ext cx="4397760" cy="4242240"/>
            <a:chOff x="3059280" y="1523880"/>
            <a:chExt cx="4397760" cy="4242240"/>
          </a:xfrm>
        </p:grpSpPr>
        <p:sp>
          <p:nvSpPr>
            <p:cNvPr id="121" name="_s33826"/>
            <p:cNvSpPr/>
            <p:nvPr/>
          </p:nvSpPr>
          <p:spPr>
            <a:xfrm flipH="1" flipV="1">
              <a:off x="4169880" y="3453480"/>
              <a:ext cx="546120" cy="17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33804"/>
            <p:cNvSpPr/>
            <p:nvPr/>
          </p:nvSpPr>
          <p:spPr>
            <a:xfrm>
              <a:off x="3059280" y="2706840"/>
              <a:ext cx="1141920" cy="114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He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3825"/>
            <p:cNvSpPr/>
            <p:nvPr/>
          </p:nvSpPr>
          <p:spPr>
            <a:xfrm flipH="1">
              <a:off x="4584600" y="4268520"/>
              <a:ext cx="33840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3802"/>
            <p:cNvSpPr/>
            <p:nvPr/>
          </p:nvSpPr>
          <p:spPr>
            <a:xfrm>
              <a:off x="3678840" y="4622040"/>
              <a:ext cx="1142280" cy="114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Sme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3824"/>
            <p:cNvSpPr/>
            <p:nvPr/>
          </p:nvSpPr>
          <p:spPr>
            <a:xfrm>
              <a:off x="5592240" y="4268520"/>
              <a:ext cx="336600" cy="4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3808"/>
            <p:cNvSpPr/>
            <p:nvPr/>
          </p:nvSpPr>
          <p:spPr>
            <a:xfrm>
              <a:off x="5692320" y="4623480"/>
              <a:ext cx="1142280" cy="114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Tas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3823"/>
            <p:cNvSpPr/>
            <p:nvPr/>
          </p:nvSpPr>
          <p:spPr>
            <a:xfrm flipV="1">
              <a:off x="5798520" y="3453480"/>
              <a:ext cx="544680" cy="17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3806"/>
            <p:cNvSpPr/>
            <p:nvPr/>
          </p:nvSpPr>
          <p:spPr>
            <a:xfrm>
              <a:off x="6315120" y="2708280"/>
              <a:ext cx="1141920" cy="114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Tou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3822"/>
            <p:cNvSpPr/>
            <p:nvPr/>
          </p:nvSpPr>
          <p:spPr>
            <a:xfrm flipV="1">
              <a:off x="5256720" y="2664360"/>
              <a:ext cx="0" cy="57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33800"/>
            <p:cNvSpPr/>
            <p:nvPr/>
          </p:nvSpPr>
          <p:spPr>
            <a:xfrm>
              <a:off x="4686480" y="1523880"/>
              <a:ext cx="1142280" cy="114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S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3799"/>
            <p:cNvSpPr/>
            <p:nvPr/>
          </p:nvSpPr>
          <p:spPr>
            <a:xfrm>
              <a:off x="4686480" y="3238200"/>
              <a:ext cx="1142280" cy="114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c00ff"/>
                  </a:solidFill>
                  <a:latin typeface="Baskerville Old Face"/>
                </a:rPr>
                <a:t>Our Five Sen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3048120" y="457200"/>
            <a:ext cx="44956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9:58:03Z</dcterms:created>
  <dc:creator>yvazquez</dc:creator>
  <dc:description/>
  <cp:keywords/>
  <dc:language>en-US</dc:language>
  <cp:lastModifiedBy>WinuE</cp:lastModifiedBy>
  <dcterms:modified xsi:type="dcterms:W3CDTF">2010-11-15T19:36:30Z</dcterms:modified>
  <cp:revision>6</cp:revision>
  <dc:subject/>
  <dc:title>WHAT ARE THE 5 SENS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